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1957-FCC7-4A78-9038-44E09CB25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5629-FA54-4CB0-A9F1-24F53AF213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7B4-893B-4E72-B9EF-D7318577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C02-2FDE-4E50-9419-F6D0F00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B411-D25E-4B98-A4EC-CDE11BDB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C58-D1FF-4A91-93FB-A2807F4C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A22-9C44-487D-8897-CB8C9594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5CD-0363-4418-8E9C-58689A8C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5D36-1D99-44A7-A163-517D8416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B16-48C5-46CF-969D-D4D8C48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410-9E59-48EC-9BC2-2EAA6827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5CE-D39B-4519-8D28-28B1F1F8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444-9A94-44EE-9E42-5D8E93FB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2C0-9F06-45F5-B427-CE32C7FC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588-1C9A-49F4-9F1E-AA3CC53FDF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f6228"/>
                </a:solidFill>
                <a:latin typeface="Calibri"/>
              </a:rPr>
              <a:t>Показатели доходов и расходов в 2015 год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28760" y="1000080"/>
            <a:ext cx="107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438120" y="1079640"/>
          <a:ext cx="877896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079640"/>
                    <a:ext cx="877896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4T05:07:02Z</dcterms:created>
  <dc:creator>2</dc:creator>
  <dc:description/>
  <dc:language>en-US</dc:language>
  <cp:lastModifiedBy>Администратор</cp:lastModifiedBy>
  <dcterms:modified xsi:type="dcterms:W3CDTF">2016-01-29T08:58:20Z</dcterms:modified>
  <cp:revision>22</cp:revision>
  <dc:subject/>
  <dc:title>Слайд 1</dc:title>
</cp:coreProperties>
</file>